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5A9-686F-44AB-8300-F9AC280C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D3B-294D-4B7B-AB5B-601DFC2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8A4-E394-4EF0-8A4A-2340F0E1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902-4946-4CE6-B5E2-B8DAB17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D6C9-BE27-4578-96EA-7A440F0A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2467-D5D1-48F7-95D7-CC70D7A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248A-8712-45F6-A80D-1347D2F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CC43-ADE7-4462-BA7F-D6CA482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D336-8F7A-4841-80F9-2F59150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087-2592-4BF0-992C-D24D881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6B28-A0D8-48D8-83B9-F9B0199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681-398C-43E5-B0F1-74D52F4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4792-E87F-4D8B-B65E-327D89C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66CB-23AC-40CB-992F-F3EEFCF9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C81-FCEF-47F7-A11F-9D03CA9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B619-9C91-47A8-8D19-25F32329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A05-D12C-4C1D-BBC6-A96C8B2B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FD4-B2FD-48B1-ACAC-EFE9F5F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61B-7B2E-4DC4-9A1F-AC92D984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03-41F9-4056-85F7-33AA7CDB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7F6-29AA-4026-87A1-BEA1C5C8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FF8-F92A-4475-B12C-572C830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AFB-8744-4EE0-B222-0677D77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F1-F3A6-44ED-A883-828246B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F3D3-4C02-425A-A7DF-AEEDF54396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4FD-26A8-44C1-9D4D-8342EEBB70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мы научились рисовать с помощью координат, это нам показалось очень интересным и увлекательны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6429240" y="428616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Цели: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научиться строить точки по заданным её координатам и определять координаты точки, отмеченной на координатной плоск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. Ознакомиться с прямоугольной системой координат на     плоск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. Научиться  ориентироваться на координатной плоскости, четко и аккуратно выполнять геометрические постро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3. Развивать творческие способ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4. Активизировать внимание с помощью применения мультимедий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7T10:42:34Z</dcterms:modified>
  <cp:revision>81</cp:revision>
  <dc:subject/>
  <dc:title>Слайд 1</dc:title>
</cp:coreProperties>
</file>